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140F-6267-4A13-990E-4F0001C4D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1810-0386-4A04-B336-F5D45867B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022E-09E4-4BFD-97A0-3308C1A56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E94F-8369-4D63-9CCB-FEA37DAC0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B2BA7-3AD7-4B88-AB09-7CCAE7CDB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B0C71-E462-4263-A531-02754CAA5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C31DC-DE6A-4F4E-A271-C8AF6F909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45B61-B12E-4FB7-8C9A-3D3815D42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818A2-A934-4CDE-8A63-1320D8D4A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5D5A2-C618-4579-BCF5-D19700A5C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4B88C-8CDD-4B72-8148-5A4C772A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AF8F-A873-471E-BA39-991661CD5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26794-E8D6-4BED-8674-CFFFC119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072D0-8DE7-4579-9FE2-F8920E28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53B1E-E8BC-4613-BD0E-8AC3C57D7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37321-DD83-4BB0-9EC5-A29F6CFE3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D7702-25CB-4A5A-B9BD-27FC41158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25DB-5D3C-40ED-9B74-5ECB79328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34F3-6D55-469C-A938-4F9C7B4B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E7B4-F320-4AA9-8612-FE20C44ED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CA78-6B82-47D7-ACE8-C5AE31F86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DD4C-63A0-4AE9-B696-3C2ACDB7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0137-6B91-4C0D-8DF9-D9F20452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2FB8-14B8-43F6-9374-CF291F0A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76EDB-A068-4362-83C5-2E3FECF4FB56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CE05F-C2A2-492F-BDA4-B1F49545E5A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8822A-F945-4306-96CA-00198C562E68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6BD20-7DDB-4BD3-A6AC-5F3013A80E8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1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7280" y="2349000"/>
            <a:ext cx="6707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Мировая экономика и международная торговля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6316560"/>
            <a:ext cx="708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38080" y="586692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авка Н.В., учитель истории и обществознания МОУ «Февральская СОШ №1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009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492360" y="189000"/>
            <a:ext cx="216216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Экономик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0460D-A43C-4EA1-A0E6-C9E009C49828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7741829-6BA6-49D1-8662-3D5AEE928E9C}" type="datetime1">
              <a:rPr lang="en-US"/>
              <a:t>07/30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84360" y="476280"/>
            <a:ext cx="79088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НЕОТЕХНОЛОГИЧЕСКИЕ ТЕОРИИ М-Н ТОРГОВЛИ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1280" y="1268280"/>
            <a:ext cx="79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Эти теории объясняют, например,  причины торговли между странами, притом что структура и техническая характеристика факторов производства у них схож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4360" y="249228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рамках этих теорий учитываются возможности новой развивающейся техники и технологии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3284640"/>
            <a:ext cx="187308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50000">
                <a:srgbClr val="ffcc00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Times New Roman"/>
              </a:rPr>
              <a:t>Крупносерийно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Times New Roman"/>
              </a:rPr>
              <a:t>производ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3284640"/>
            <a:ext cx="266508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50000">
                <a:srgbClr val="ffcc00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Times New Roman"/>
              </a:rPr>
              <a:t>Снижение себестоимост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Times New Roman"/>
              </a:rPr>
              <a:t>единицы  продукц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300720" y="3284640"/>
            <a:ext cx="215892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50000">
                <a:srgbClr val="ffcc00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Times New Roman"/>
              </a:rPr>
              <a:t>Снижени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Times New Roman"/>
              </a:rPr>
              <a:t>цен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84360" y="3645000"/>
            <a:ext cx="574920" cy="144360"/>
          </a:xfrm>
          <a:prstGeom prst="rightArrow">
            <a:avLst>
              <a:gd name="adj1" fmla="val 50000"/>
              <a:gd name="adj2" fmla="val 99564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24360" y="3573360"/>
            <a:ext cx="574920" cy="144720"/>
          </a:xfrm>
          <a:prstGeom prst="rightArrow">
            <a:avLst>
              <a:gd name="adj1" fmla="val 50000"/>
              <a:gd name="adj2" fmla="val 99316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4508640"/>
            <a:ext cx="82072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кономисты обращают внимание на непрерывные технологические изменения, осуществляемые фирмами с целью формирования конкурентных преимущест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ак, например, Голландия экспортирует цветы на сумму более 1 млрд долл. в год, используя усовершенствованные теплицы, отапливаемые электричеством или газом, и авиатранспорт для доставки товара потребителя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B233-C029-4B5A-A091-7A51A7E09361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267E24-441B-41AD-9D0D-CC7C5302987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Закономерности развития мировой торговли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55640" y="2060640"/>
            <a:ext cx="813744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ировая торговля растет очень быстро, экспортные доли стран в объеме ВВП увеличиваются. В 1950г. мировой экспорт товаров и услуг составлял 13% мирового ВВП, в 2000г. – 17,1%, в 2015г., по прогнозу, составит 18,7%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зрастает доля готовой продукции, особенно высокотехнологичной, наукоемко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ыстро растут цены машин и оборудования, выпускаемые ведущими странами мир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нижение спроса развитых стран на сырье и продовольствие, производимые развивающимися странами. Их положение в мировой торговле ухудшается. Выгодность внешней торговли для развитых стран расте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величение мирового рынка услуг, особенно туристских, транспортных, финансовых, в сфере передачи технологии. Лидеры – развитые стра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2381-D4A7-47EE-8472-C2D059A8A6B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EA8B51-8688-4F5F-80AD-1EE7CE44EBE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808020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нешняя торговля России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8360" y="822240"/>
            <a:ext cx="8207280" cy="60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начение внешней торговли выросло. В 2003г. экспорт товаров составил 135,9 млрд долл., и увеличился на 26,2% по сравнению с уровнем 2002г., импорт вырос на 23,6% и равнялся 75,4 млрд долл. Увеличилась доля экспорта в ВВП. Россия перешла к более рациональным связям, крупнейшие ее партнеры – Германия, США, Итал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оля России в мировой торговле снижается. Ее внешнеторговый оборот составляет около 1% от мирового по сравнению с 3% во второй половине 80-х г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благоприятна товарная структура внешней торговли. Более половины экспорта – невоспроизводимые сырьевые товары с низкой степенью обработки, цветные и черные металлы, электроэнергия, минеральные удобрения, каменный уголь, лес. Вывоз машин и оборудования – около 5%. На 70-75% поступление валюты связано с экспортом сырь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мпортируется оборудование и машины - около трети стоимости импорта, продовольствие, с/х сырье, медикаменты, одежда, обувь, ткан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2EB3-D034-4615-A9BE-91C7CC75F86B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E2C56F-7AAC-4A23-A771-5EB9BA209D5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8080200" cy="87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Формы международной торговли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1628640"/>
            <a:ext cx="8064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ямые коммерческие операции, оплата в валюте – основное мест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стречная торговля: оплата поставок осуществляется встречными поставками товаров (бартер, компенсационные сделки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3141720"/>
            <a:ext cx="1333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ecff"/>
                </a:solidFill>
                <a:latin typeface="Impact"/>
              </a:rPr>
              <a:t>БАРТЕ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ecff"/>
              </a:solidFill>
              <a:latin typeface="Impact"/>
              <a:ea typeface="Impact"/>
            </a:endParaRPr>
          </a:p>
        </p:txBody>
      </p:sp>
      <p:sp>
        <p:nvSpPr>
          <p:cNvPr id="130" name=""/>
          <p:cNvSpPr/>
          <p:nvPr/>
        </p:nvSpPr>
        <p:spPr>
          <a:xfrm>
            <a:off x="2484360" y="3141720"/>
            <a:ext cx="5616720" cy="86364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СДЕЛКА НА ОСНОВЕ НАТУРАЛЬНОГО ОБМЕ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ТОВАРАМИ БЕЗ ДЕНЕЖНОГО РАСЧЕТ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4360" y="407664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России бартер составляет от 11 до 14%. Самый большой бартерный оборот с Китаем, Германией, Швейцарией, Венгрией (экспорт рыбы, каменного угля, чугуна, жел.руды, импорт сахара, мясных консервов, легковых автомобилей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11280" y="4941720"/>
            <a:ext cx="38383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ecff"/>
                </a:solidFill>
                <a:latin typeface="Impact"/>
              </a:rPr>
              <a:t>Компенсационны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e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ecff"/>
                </a:solidFill>
                <a:latin typeface="Impact"/>
              </a:rPr>
              <a:t>сделк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ecff"/>
              </a:solidFill>
              <a:latin typeface="Impact"/>
              <a:ea typeface="Impact"/>
            </a:endParaRPr>
          </a:p>
        </p:txBody>
      </p:sp>
      <p:sp>
        <p:nvSpPr>
          <p:cNvPr id="133" name=""/>
          <p:cNvSpPr/>
          <p:nvPr/>
        </p:nvSpPr>
        <p:spPr>
          <a:xfrm>
            <a:off x="4643280" y="5157720"/>
            <a:ext cx="43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ставка оборудования на условиях кредита, который погашается поставками продукции, выпущенной на этом оборудовании и т.п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635280" y="5734080"/>
            <a:ext cx="1008000" cy="142920"/>
          </a:xfrm>
          <a:prstGeom prst="rightArrow">
            <a:avLst>
              <a:gd name="adj1" fmla="val 50000"/>
              <a:gd name="adj2" fmla="val 176322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C5DF-DF70-4187-9CAC-977E782289A7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C79A82-C040-40FB-9B1C-D9968046AD4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68360" y="333360"/>
            <a:ext cx="4933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етоды м-н торговли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87280" y="907920"/>
            <a:ext cx="7417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ямые сделки с экспортерам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пользование посредников, </a:t>
            </a:r>
            <a:r>
              <a:rPr b="0" lang="ru-RU" sz="1800" spc="-1" strike="noStrike" u="sng">
                <a:solidFill>
                  <a:srgbClr val="ff0033"/>
                </a:solidFill>
                <a:uFillTx/>
                <a:latin typeface="Times New Roman"/>
                <a:hlinkClick r:id="rId1" action="ppaction://hlinksldjump"/>
              </a:rPr>
              <a:t>дистрибьютеров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1800" spc="-1" strike="noStrike" u="sng">
                <a:solidFill>
                  <a:srgbClr val="ff0033"/>
                </a:solidFill>
                <a:uFillTx/>
                <a:latin typeface="Times New Roman"/>
                <a:hlinkClick r:id="rId2" action="ppaction://hlinksldjump"/>
              </a:rPr>
              <a:t>комиссионеров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агентов (биржевая торговля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8360" y="2205000"/>
            <a:ext cx="5067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иды сделок на биржах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42920" y="2852640"/>
            <a:ext cx="7777080" cy="33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ff99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99ff"/>
                </a:solidFill>
                <a:uFillTx/>
                <a:latin typeface="Times New Roman"/>
              </a:rPr>
              <a:t>Сделки на реальный товар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предполагают его поставку немедленно, т.е. в срок до 15 дней (сделка кэш или спот), или поставка в будущем (форвард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99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99ff"/>
                </a:solidFill>
                <a:uFillTx/>
                <a:latin typeface="Times New Roman"/>
              </a:rPr>
              <a:t>Срочные (фьючерсные) сделки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– сделки, которые не предусматривают обязательства сторон поставить или принять реальный товар, а предполагают куплю или продажу прав на товар, т.е. </a:t>
            </a:r>
            <a:r>
              <a:rPr b="0" lang="ru-RU" sz="1800" spc="-1" strike="noStrike" u="sng">
                <a:solidFill>
                  <a:srgbClr val="ff0033"/>
                </a:solidFill>
                <a:uFillTx/>
                <a:latin typeface="Times New Roman"/>
                <a:hlinkClick r:id="rId3" action="ppaction://hlinksldjump"/>
              </a:rPr>
              <a:t>фьючерсных контрактов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Результат сделки – уплата или получение разницы между ценой контракта в день его заключения и ценой в день исполнения. Целью является не получение товара, получение спекулятивной прибыли за счет разницы цен или застраховаться от потерь в случае изменения цен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7B2F-D6E0-4185-96E8-5BF15831EC29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2AC2FD-8DB9-4081-BE29-2F5487EEBDE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55640" y="692280"/>
            <a:ext cx="770400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99ff"/>
                </a:solidFill>
                <a:uFillTx/>
                <a:latin typeface="Times New Roman"/>
              </a:rPr>
              <a:t>3. Международные торги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– на мировых рынках строительных услуг, при поставках дорогого оборудования. Заказ получает фирма, предложившая лучшие условия его выполнен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99ff"/>
                </a:solidFill>
                <a:uFillTx/>
                <a:latin typeface="Times New Roman"/>
              </a:rPr>
              <a:t>4. Международные аукционы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 На них реализуются товары, обладающие индивидуальными свойствами: пушно-меховые изделия, произведения искусства и т.п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99ff"/>
                </a:solidFill>
                <a:uFillTx/>
                <a:latin typeface="Times New Roman"/>
              </a:rPr>
              <a:t>5. Электронная коммерция</a:t>
            </a:r>
            <a:r>
              <a:rPr b="0" lang="ru-RU" sz="2000" spc="-1" strike="noStrike">
                <a:solidFill>
                  <a:srgbClr val="ff99ff"/>
                </a:solidFill>
                <a:latin typeface="Times New Roman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например, сбыт энергоносителей на международной нефтяной бирже в Лондоне, Нью-Йоркской и Гонконгской фьючерсных биржах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6A9F-8ACB-486E-8435-D727C48A6B36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259E64-6D63-4996-874E-E8EDCDBC284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Роль ООН в мировой экономике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еятельность шести основных органов ООН регламентирует Десятая глава Устава. Одним из них, непосредственно связанным с международными экономическими отношениями, является ЭКОКОС - Экономический и социальный совет ООН, под эгидой которого действует и большинство других экономических органов этой организаци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функции ЭКОКОС входит организация исследований и подготовка различного рода докладов и рекомендаций по самому широкому спектру международных экономических, социальных, культурных и сопряженных с ними вопрос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3FBC-869C-4254-8244-2137500BEC8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37683C-3400-4193-A026-90B7309CEC9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755640" y="333000"/>
            <a:ext cx="7772400" cy="6335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ферой деятельности ЭКОКОС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является рассмотрение следующих вопросов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состояние мирового экономического и социального положения и международная торговля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проблемы окружающей среды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вопросы оказания экономической и научной помощи развивающимся странам, а также аспекты состояния в них продовольственной проблемы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состояние проблем социально-экономической статистики, народонаселения и природных ресурсов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проблема планирования и мобилизации финансовых ресурсов, а также роли государственного и кооперативного секторов в экономике развивающихся стран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проблемы регионального сотрудничеств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6E2C-09A5-42DE-A2C1-5C883423E140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3BEF56-E58B-4107-A1D2-F9FDCD011C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50920" y="260280"/>
            <a:ext cx="84247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ференция ООН по торговле и развитию (ЮНКТАД) - международный орган, призванный регулировать всемирные торговые отношения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иболее важные требования к участникам международной торговли разрабатываются ГАТТ (Генеральное соглашение по торговле и тарифам) - они выполняют приоритетную роль и при разработке документов ЮНКТАД. С 1997 года ГАТТ решением ее участников было преобразовано во Всемирную торговую организацию, как специализированное учреждение ООН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86C5-D210-4C52-B373-4587A635AEC6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080BB6-CD52-4AAD-BB0C-3EC259848ED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84360" y="76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ьючерс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Futures contract; Futur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ьючерсный контракт - контракт на покупку или продажу товара (финансового актива) с поставкой на будущую дату. Фьючерсный контракт предусматривает строго определенное количество товара установленного вида с минимально допустимыми отклонениями, поставляемого на определенных условиях оплаты накладных или транспортных расходов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делка по продаже (покупке) фьючерсного контракта обязательно регистрируется расчетной палатой бирж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>
            <a:hlinkClick r:id="" action="ppaction://hlinkshowjump?jump=previousslide"/>
          </p:cNvPr>
          <p:cNvSpPr/>
          <p:nvPr/>
        </p:nvSpPr>
        <p:spPr>
          <a:xfrm>
            <a:off x="2124000" y="6381720"/>
            <a:ext cx="1008000" cy="476280"/>
          </a:xfrm>
          <a:custGeom>
            <a:avLst/>
            <a:gdLst>
              <a:gd name="textAreaLeft" fmla="*/ 30600 w 1008000"/>
              <a:gd name="textAreaRight" fmla="*/ 977400 w 1008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45696" h="21600">
                <a:moveTo>
                  <a:pt x="0" y="0"/>
                </a:moveTo>
                <a:lnTo>
                  <a:pt x="45696" y="0"/>
                </a:lnTo>
                <a:lnTo>
                  <a:pt x="45696" y="21600"/>
                </a:lnTo>
                <a:lnTo>
                  <a:pt x="0" y="21600"/>
                </a:lnTo>
                <a:close/>
              </a:path>
              <a:path fill="lightenLess" w="45696" h="21600">
                <a:moveTo>
                  <a:pt x="0" y="0"/>
                </a:moveTo>
                <a:lnTo>
                  <a:pt x="45696" y="0"/>
                </a:lnTo>
                <a:lnTo>
                  <a:pt x="44296" y="1400"/>
                </a:lnTo>
                <a:lnTo>
                  <a:pt x="1400" y="1400"/>
                </a:lnTo>
                <a:close/>
              </a:path>
              <a:path fill="darken" w="45696" h="21600">
                <a:moveTo>
                  <a:pt x="45696" y="0"/>
                </a:moveTo>
                <a:lnTo>
                  <a:pt x="45696" y="21600"/>
                </a:lnTo>
                <a:lnTo>
                  <a:pt x="44296" y="20200"/>
                </a:lnTo>
                <a:lnTo>
                  <a:pt x="44296" y="1400"/>
                </a:lnTo>
                <a:close/>
              </a:path>
              <a:path fill="darkenLess" w="45696" h="21600">
                <a:moveTo>
                  <a:pt x="45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296" y="20200"/>
                </a:lnTo>
                <a:close/>
              </a:path>
              <a:path fill="lighten" w="45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696" h="21600">
                <a:moveTo>
                  <a:pt x="15842" y="10800"/>
                </a:moveTo>
                <a:lnTo>
                  <a:pt x="29855" y="3794"/>
                </a:lnTo>
                <a:lnTo>
                  <a:pt x="29855" y="1780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A141-75DE-4ED1-8E78-498A20EB4DD1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85ADDC-FE69-408C-93A1-FE3F12841D3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Мировая экономик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0920" y="1268280"/>
            <a:ext cx="8424720" cy="45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ировую экономику можно определить как совокупность национальных хозяйств и негосударственных структур, объединенных международными отношениям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ировая экономика возникла благодаря международному разделению труда, что повлекло за собой как разделение производства (то есть международную специализацию), так и его объединение — кооперацию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сновные характеристики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ерархичность (наличие наднациональных институтов, например ООН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ногоуровневос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руктурнос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равномерность распределения экономической мощи (на 32 развитые страны мира приходится 80% мировой покупательной способности граждан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личие определенного мирового порядк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631E-91D2-467A-8B26-1CCA4CB093C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09ACC4-ACCF-402A-B760-E0F6AB2F0F5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еятельность дистрибьютора состоит в том, что он делает оптовую закупу товара и реализует его на региональных рынках. Одновременно дистрибьютор оказывает консультационные и маркетинговые услуги, при необходимости занимается установкой оборудования. То есть, фактически, дистрибьютор – продавец, торговый представитель фирм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previousslide"/>
          </p:cNvPr>
          <p:cNvSpPr/>
          <p:nvPr/>
        </p:nvSpPr>
        <p:spPr>
          <a:xfrm>
            <a:off x="2124000" y="6237360"/>
            <a:ext cx="1079640" cy="620640"/>
          </a:xfrm>
          <a:custGeom>
            <a:avLst/>
            <a:gdLst>
              <a:gd name="textAreaLeft" fmla="*/ 39960 w 1079640"/>
              <a:gd name="textAreaRight" fmla="*/ 1039680 w 1079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7565" h="21600">
                <a:moveTo>
                  <a:pt x="0" y="0"/>
                </a:moveTo>
                <a:lnTo>
                  <a:pt x="37565" y="0"/>
                </a:lnTo>
                <a:lnTo>
                  <a:pt x="37565" y="21600"/>
                </a:lnTo>
                <a:lnTo>
                  <a:pt x="0" y="21600"/>
                </a:lnTo>
                <a:close/>
              </a:path>
              <a:path fill="lightenLess" w="37565" h="21600">
                <a:moveTo>
                  <a:pt x="0" y="0"/>
                </a:moveTo>
                <a:lnTo>
                  <a:pt x="37565" y="0"/>
                </a:lnTo>
                <a:lnTo>
                  <a:pt x="36165" y="1400"/>
                </a:lnTo>
                <a:lnTo>
                  <a:pt x="1400" y="1400"/>
                </a:lnTo>
                <a:close/>
              </a:path>
              <a:path fill="darken" w="37565" h="21600">
                <a:moveTo>
                  <a:pt x="37565" y="0"/>
                </a:moveTo>
                <a:lnTo>
                  <a:pt x="37565" y="21600"/>
                </a:lnTo>
                <a:lnTo>
                  <a:pt x="36165" y="20200"/>
                </a:lnTo>
                <a:lnTo>
                  <a:pt x="36165" y="1400"/>
                </a:lnTo>
                <a:close/>
              </a:path>
              <a:path fill="darkenLess" w="37565" h="21600">
                <a:moveTo>
                  <a:pt x="37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165" y="20200"/>
                </a:lnTo>
                <a:close/>
              </a:path>
              <a:path fill="lighten" w="37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565" h="21600">
                <a:moveTo>
                  <a:pt x="11776" y="10800"/>
                </a:moveTo>
                <a:lnTo>
                  <a:pt x="25789" y="3794"/>
                </a:lnTo>
                <a:lnTo>
                  <a:pt x="25789" y="1780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669F-6625-46E2-8D0B-81FA9AFA8E2E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B2B1DF-958B-4AFF-B906-8CD8EB7C053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МИССИОНЕР — посредник в торговых сделках; лицо, выполняющее за особое вознаграждение торговые поручения от своего имени, но за счет комитент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previousslide"/>
          </p:cNvPr>
          <p:cNvSpPr/>
          <p:nvPr/>
        </p:nvSpPr>
        <p:spPr>
          <a:xfrm>
            <a:off x="1547640" y="6237360"/>
            <a:ext cx="936720" cy="620640"/>
          </a:xfrm>
          <a:custGeom>
            <a:avLst/>
            <a:gdLst>
              <a:gd name="textAreaLeft" fmla="*/ 39960 w 936720"/>
              <a:gd name="textAreaRight" fmla="*/ 896760 w 936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2594" h="21600">
                <a:moveTo>
                  <a:pt x="0" y="0"/>
                </a:moveTo>
                <a:lnTo>
                  <a:pt x="32594" y="0"/>
                </a:lnTo>
                <a:lnTo>
                  <a:pt x="32594" y="21600"/>
                </a:lnTo>
                <a:lnTo>
                  <a:pt x="0" y="21600"/>
                </a:lnTo>
                <a:close/>
              </a:path>
              <a:path fill="lightenLess" w="32594" h="21600">
                <a:moveTo>
                  <a:pt x="0" y="0"/>
                </a:moveTo>
                <a:lnTo>
                  <a:pt x="32594" y="0"/>
                </a:lnTo>
                <a:lnTo>
                  <a:pt x="31194" y="1400"/>
                </a:lnTo>
                <a:lnTo>
                  <a:pt x="1400" y="1400"/>
                </a:lnTo>
                <a:close/>
              </a:path>
              <a:path fill="darken" w="32594" h="21600">
                <a:moveTo>
                  <a:pt x="32594" y="0"/>
                </a:moveTo>
                <a:lnTo>
                  <a:pt x="32594" y="21600"/>
                </a:lnTo>
                <a:lnTo>
                  <a:pt x="31194" y="20200"/>
                </a:lnTo>
                <a:lnTo>
                  <a:pt x="31194" y="1400"/>
                </a:lnTo>
                <a:close/>
              </a:path>
              <a:path fill="darkenLess" w="32594" h="21600">
                <a:moveTo>
                  <a:pt x="32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94" y="20200"/>
                </a:lnTo>
                <a:close/>
              </a:path>
              <a:path fill="lighten" w="32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94" h="21600">
                <a:moveTo>
                  <a:pt x="9291" y="10800"/>
                </a:moveTo>
                <a:lnTo>
                  <a:pt x="23304" y="3794"/>
                </a:lnTo>
                <a:lnTo>
                  <a:pt x="23304" y="1780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D033-5583-421A-A4DA-8D7305B549F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D13785-ADB5-4DB1-97A4-11347AB2F80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rcRect l="0" t="0" r="3969" b="0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799C-960C-40B1-BDDB-AB7DCB7196DE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536FBD-7090-4133-81C8-7F19942B58D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151840" cy="10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Направления и формы международных экономических отношений:</a:t>
            </a: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2560" y="134100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международная торговля товарами, работами, услугами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международная специализация производства и научно-технических работ, или международный научно-технический обмен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обмен научно-техническими результатами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информационные, валютно-финансовые и кредитные связи между странами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движение капитала (инвестиции)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движение (миграция) рабочей силы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деятельность международных экономических организаций, хозяйственное сотрудничество в решении глобальных пробле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20E4-C2CB-4586-A1C8-D54AABB6882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A3F131-9360-4369-8788-F91134C6D25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Субъекты мировых хозяйственных отношений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ранснациональные корпорации (ТНК) и их долгосрочные альянсы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ранснациональные банки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Финансово-промышленные группы — объединение ТНК и ТНБ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иржи (особенно крупные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рупные предприниматели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осударства, и приравненные к ним территории, а также административные единицы данных государств и территорий; Мировые финансовые и экономические организации (включая крупных инвесторов и организации-объединения крупных компаний, занимающиеся контролем определенных международных рынков, объединения стран внутри региона — СНГ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4941720"/>
            <a:ext cx="820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ост мировой экономики за 2005 год составил 4,4 %. Суммарный ВВП всех стран составил на конец 2005 года — 43,07 трлн долл. США в номинальном выражении. В среднем ВВП на душу населения составляет около 9500 долл. (ППП) на человека. Сейчас в мире насчитывается около 30 тысяч транснациональных корпораций и около 300 тысяч их филиало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3742-665C-4641-B84A-8004A6B1717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553680-51F6-4A81-91D8-81BCE52D39F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39640" y="907920"/>
            <a:ext cx="777240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) развитая инфраструктура;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) наличие политических решений правительства (создание условий для интеграции – политическая и экономическая база);</a:t>
            </a:r>
            <a:br>
              <a:rPr sz="2000"/>
            </a:br>
            <a:br>
              <a:rPr sz="18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11280" y="2421000"/>
          <a:ext cx="7848360" cy="3963960"/>
        </p:xfrm>
        <a:graphic>
          <a:graphicData uri="http://schemas.openxmlformats.org/drawingml/2006/table">
            <a:tbl>
              <a:tblPr/>
              <a:tblGrid>
                <a:gridCol w="2057400"/>
                <a:gridCol w="5790960"/>
              </a:tblGrid>
              <a:tr h="75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ип интегр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изна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она свободной торговл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орма соглашения, когда участники договариваются о снятии таможенных тарифов и квот в отношении друг друга. При этом к третьим странам – у каждого своя политика. Примеры: НАФТА, ЕЭС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аможенный союз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лное устранение препятствий для перемещений всех факторов производства между странами-участницами. В процессе решения находятся такие вопросы, как: полное согласование экономической политики и т.д., выравнивание экономических показателей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260280"/>
            <a:ext cx="808056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Условия и типы интеграции: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A3C2-1BCD-4329-9A48-08FDF465867D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BBECFC-1035-41CB-BD9F-1E13A1673A7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324000" y="304920"/>
          <a:ext cx="8819640" cy="7086240"/>
        </p:xfrm>
        <a:graphic>
          <a:graphicData uri="http://schemas.openxmlformats.org/drawingml/2006/table">
            <a:tbl>
              <a:tblPr/>
              <a:tblGrid>
                <a:gridCol w="2122920"/>
                <a:gridCol w="6696720"/>
              </a:tblGrid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кономический союз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озникает на этапе высокого экономического развития. Проводится согласованная (или даже единая) экономическая политика и на этой основе идет снятие всех препятствий. Создаются межгосударственные (надгосударственные) органы. Идут крупные экономические преобразования во всех странах-участницах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0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алютный союз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орма экономического союза и одновременно его крупная составляющая. Характерными чертами валютного союза являются: 1) согласованное (совместное) плавание национальных валют;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) установление по соглашению фиксированных валютных курсов, которые целенаправленно поддерживаются Центробанками стран-участниц;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) создание единой региональной валюты;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) формирование единого регионального банка, являющегося эмиссионным центром этой международной валютной единицы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лная экономическая интеграц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Единая экономическая политика и, как следствие, унификация законодательной базы. Условия: 1) общая налоговая система; 2) наличие единых стандартов; 3) единое трудовое законодательство и т.д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4A7F-7940-4B59-86AF-29FCB293AE2E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75D81D-5006-4CEC-88B5-74FE1155D30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68360" y="1341360"/>
            <a:ext cx="8209080" cy="29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правление экономической мысл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XVI-XVII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в., видным представителем которого был Т.Манн (1571-1641) изучали проблемы внешней торговл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еркантилисты полагали, что внешняя торговля необходима стране для накопления золота, которое считалось главным источником богатства нации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Приток золота в страну обеспечивается, если вывоз товаров, за которые государство получает золото, будет больше ввоза, за который надлежит расплачиваться благородным металло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этому меркантилисты выступали за расширение экспорта и всемерное ограничение импорт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340000" y="4365720"/>
            <a:ext cx="3024000" cy="22366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еркантилизм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84CE-1700-4C73-8E90-B6A03271A658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846234-5447-43D0-AC07-7A63677C5CF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68360" y="0"/>
            <a:ext cx="813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дам Смит выдвинул теорию мировой торговли, обосновав необходимость либерализации импорта и ослабления таможенных ограничений. Подход Смита получил назва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4360" y="1052640"/>
            <a:ext cx="74041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ИНЦИП АБСОЛЮТНОГО ПРЕИМУЩЕСТВА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1773360"/>
            <a:ext cx="849600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72f75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аждая страна должна специализироваться на производстве товаров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редние издержки которых меньше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чем средние издержки в других страна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551664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бсолютное преимущество по какому-либо товару определяется наделенностью соответствующими ресурсами. Экспортируя часть товаров, на вырученные деньги страна приобретает товары, в производстве которых преимущество у другой стра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340000" y="3213000"/>
            <a:ext cx="4762440" cy="228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548B-29D3-48D1-86A9-4681651BDD0B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664DDA-E80D-476D-A286-81D7E610DED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116000" y="404640"/>
            <a:ext cx="68198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ИНЦИП СРАВНИТЕЛЬНОГО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ЕИМУЩЕСТВА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332000" y="1557360"/>
            <a:ext cx="6985080" cy="1727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72f75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РАНА  ДОЛЖНА  СПЕЦИАЛИЗИРОВАТЬСЯ  Н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ПУСКЕ  ТОВАРОВ,  ПРОИЗВОДСТВО  КОТОРЫ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ТНОСИТЕЛЬНО  БОЛЕЕ  ВЫГОДНО  В  СОПОСТАВЛЕН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  ПРОИЗВОДСТВОМ  ТАКИХ  ЖЕ  ТОВАРОВ  В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РУГИХ   СТРАНА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8360" y="350028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нцип сравнительного преимущества Д.Рикардо впоследствии развили другие  экономисты, которые распространили его на всю совокупность факторов производства, включая капитал. Страны экспортируют те товары, на производство которых идут факторы, имеющиеся в относительном избытке и поэтому относительно дешевые (рабочая сила в развивающихся странах дешевая, страны экспортируют трудоемкие товары, а импортируют наукоемкую продукцию, так собственное их производство потребовало бы относительно больших затрат в связи с нехваткой капитала и квалифицированного труда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CA3D-2631-4215-A104-EC319DAFAE2D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160A5B-A1B7-453E-AE4F-DC5C33B89E6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4:11:11Z</dcterms:created>
  <dc:creator>Надежда</dc:creator>
  <dc:description/>
  <dc:language>en-US</dc:language>
  <cp:lastModifiedBy>Надежда</cp:lastModifiedBy>
  <dcterms:modified xsi:type="dcterms:W3CDTF">2009-12-14T12:20:20Z</dcterms:modified>
  <cp:revision>6</cp:revision>
  <dc:subject/>
  <dc:title>Международная торговл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